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2E5-0065-4880-9C65-C84A8322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07F-4A1C-4831-BBE7-7F1D2014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189-083F-41BD-8C52-E7394900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779-3880-4D31-AA3D-B4AEE8EE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9358-750D-45D4-BB0E-68BC114A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8F68-B085-4480-B22E-8D1CF665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9655-6E75-40B4-A214-A2590867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82DD-D3D0-4273-9CF7-BA52C46E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9411-F9BF-41A1-ACF3-4A5577FD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6527-A4E9-414C-A4FC-7F0DA404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238E-3C6F-465A-9CB3-D6B872C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A70-681B-4143-A51A-43A50F16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D96F-E30C-40E1-852C-B19487C1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0B55-1410-440B-95DA-545E295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698D-451E-4516-8480-D4599AF9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2D59-E82F-4B50-A160-532AAA83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7632-631C-4B72-9E0A-DE9245CD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C57-5D7E-4C41-89CE-F7482BD4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66D-76B3-4B32-9B0D-0096C1AD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737-D640-459C-AED7-BC01A06B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6A5-B706-4A0D-AD4C-2B38CA4B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E6C-58E6-4195-9642-456DDD7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FAE-06CA-4522-9511-D930EEE9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FDF-8F1B-4207-9832-17FB9AF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5179-4EEF-4921-91EA-0C57411E8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9F1B-26E3-4CA4-B6E8-F7E1BC257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fidels.org/library/modern/richard_carrier/SciLit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ure of Scie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Tent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of the judgment of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individuals to defend their conclusions by appeals to reason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truths are those that are agreed upon by all fully informed ob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thing certain about science is that it will always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&amp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cience is an Empirical System of Understanding the Physical Wor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al in that knowledge is based on repeated practice and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n underlying supposition that data is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5, 6, 12, &amp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unobservables (inductive reas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influence by social or cultur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fundamentally an interpretiv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not a Single Meth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methods refers to the whole gamut of means and methods in the world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ct that science tests not just concepts but also methods and means also strengthens this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periments are a Goal-Oriented Form of Scientific Observ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s based on observations (as opposed to “science is based on experiment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re goal-oriented procedures (as opposed to scientists having no idea how they will tur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ingle experiment can prove a theory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, 7, 9 &amp;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Theories are Explanations of Scientific Fac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s ar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explain the “why” or “how” behind those f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use theories to guide further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change due to new data or connections between already know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4, 8, 14, 18, &amp; 2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Laws are Descriptions of Nature’s Behavio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tific law describes the relationships between observed pheno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Law of gravity describes what will happen when you drop an apple but doesn’t explain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5, 17, 19, &amp;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Cre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s human ingenuity with the desire to test everything against observed facts and rules of reason/log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ientific theories, models, etc. are human co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inductive reasoning as much as deductive rea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3, 20, 21, &amp;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infidels.org/library/modern/richard_carrier/SciLi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2:11:56Z</dcterms:created>
  <dc:creator>College of Education</dc:creator>
  <dc:description/>
  <dc:language>en-US</dc:language>
  <cp:lastModifiedBy>elpalme</cp:lastModifiedBy>
  <dcterms:modified xsi:type="dcterms:W3CDTF">2010-10-18T16:22:56Z</dcterms:modified>
  <cp:revision>3</cp:revision>
  <dc:subject/>
  <dc:title>Nature of Science</dc:title>
</cp:coreProperties>
</file>